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77F5-87DA-4628-964F-8294AC9A4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1AA3-1CF8-46BC-B72B-4ED40EA4F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B660-0B47-495C-99FD-C5A5E7876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EF01-BFC2-4B16-903C-394FAACA7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0FDF8-A0EC-42BB-BA28-A9968166B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CCEFE-5C0F-44EC-9E1B-8C74F07E3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096FD-735F-4768-BBA1-4EBFA4472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86BB7-1B2D-43D7-88E9-CD5B9B40E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66833-515A-439D-8182-B84B8016E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FEBD8-1B90-4E2A-A483-05102478B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A70D1-9DEF-4788-87BB-D54377D5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9FD6-FB2F-470F-B945-15DA6B042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4AD15-F99B-4826-8D79-BDC57218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975F9-FA69-44FA-B94F-BB83BF3B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A0CD3-7104-4AB6-AA43-7B6FB324A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25EF8-A5AE-442A-8CDE-F7D6C0DC8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9589A-FF6E-41B4-AB92-F1EBD9178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76BD-AEF4-4E07-9372-138375305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2F2B-DE2A-4CDE-A671-154126818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2547-354C-4494-AA4A-9575BC559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99B8-8DF9-4DA2-A79F-949F79480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CA06-6000-42F6-BC4A-7EF237AE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56D7-7FB8-46AB-AAA0-ABA8884C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9A17-C114-4FA1-AAC8-501DE27B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1D00B-78BD-40B7-894B-414991A2ED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73f8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AC980-E8C0-46CF-834E-1EF06775D2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3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88120" y="4149720"/>
            <a:ext cx="6947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Mae Angharad yn gwrthod gwisgo sanau gwyrdd neu fely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Mae Beth yn gwrthod gwisgo sanau glas na gwyrdd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Dewisiodd Carl sanau gla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Dewisiodd Danny y lliw wrthododd Beth ac Angharad ei wisg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74760" y="476280"/>
            <a:ext cx="106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San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380360" y="4724280"/>
            <a:ext cx="1208160" cy="15447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596360" y="260280"/>
            <a:ext cx="1123920" cy="17892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900000" y="1125360"/>
            <a:ext cx="62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Mae’r plant yn nheulu’r Jonesiaid – Angharad, Beth, Carl a Dafydd - yn golchi eu dillad eu hun yn wythnos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00000" y="1916280"/>
            <a:ext cx="622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Maent yn treulio gormod o amser yn sortio eu sanau gan ei fod yn anodd penderfynu pwy oedd berchen beth. Maent yn penderfynu, er mwyn arbed amser, y dylai pob un ohonynt wisgo sanau o liw penodol – coch, glas, gwyrdd neu fely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00000" y="357336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Defnyddiwch y cliwiau i ddarganfod pa blentyn sy’n gwisgo pa liw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9:31:08Z</dcterms:created>
  <dc:creator>Carwyn</dc:creator>
  <dc:description/>
  <dc:language>en-US</dc:language>
  <cp:lastModifiedBy>Carwyn</cp:lastModifiedBy>
  <dcterms:modified xsi:type="dcterms:W3CDTF">2008-12-04T19:50:15Z</dcterms:modified>
  <cp:revision>2</cp:revision>
  <dc:subject/>
  <dc:title>Slide 1</dc:title>
</cp:coreProperties>
</file>